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15F-764B-4683-82EC-9170FABF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E3A-BBDB-4B18-87D9-9ED6D194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3AD-0272-467D-9363-83ED738A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DC0-42BF-4072-9A70-ABEB57AB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36E4-9D0D-498B-837E-7D98BEFA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B10-25EB-45C0-9D1F-ECFA6833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69C1-E4E4-4969-B418-5FA35136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7C8C-79F4-4792-A582-D6C88B77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6A2D-B055-431E-B8CC-D10161CE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39B4-887A-4AF4-8E76-8B72E0A1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6A67-445F-4B6C-8C94-EC9094C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CF6-EB99-4760-9615-A876A9F8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257E-8B0C-4EA4-B7AC-1AA191D4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B47E-7A71-4631-8175-36DE56D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89FF-4AF5-4A2F-BED1-B870B42D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D37B-ECF1-43C9-889B-4CC65283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AA60-1947-4BA6-82E4-B6602736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165-9459-4956-8F19-F6476FDB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BA0-05E0-4609-A438-2921D86C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F47-05E6-4D7D-BF14-A8AD2B8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7D7-31CD-4376-87F4-C62CB0AE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1AB-46C5-4E55-9983-37FC56E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A99-AB6F-4CCA-A9EF-434435A7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07F-6706-4AAA-ADE2-AFCD507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6A0C-967E-4CD6-A49D-B937065093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5323-FEA3-45B3-A14A-E24CB4CEBF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Секреты квадратных уравнений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с для креатив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грамма нашего курс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Финальная встреч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 США придут пакеты с грифом «Совершенно секретно». Наша спецгруппа должна будет расшифровать эти пакеты и получить послание, а для этого придется найти ответы  - корни квадратных уравн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то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ждый участник подготовит свое секретное послание  - придумает набор квадратных уравнений, при решении которых используются как можно больше способов нахождения корней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ем команды меняются своими заданиями и решают и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 вы думает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сообразно ли решать разные проблемы одним путе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оит ли тратить много времени на одно и то же дело, если оно  - не смысл вашей жиз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51280" y="5084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66"/>
                </a:solidFill>
                <a:latin typeface="Comic Sans MS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8709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Поэтому мы не будем тратить много времени, а займемся на нашем курсе изучением </a:t>
            </a:r>
            <a:r>
              <a:rPr b="1" lang="ru-RU" sz="2600" spc="-1" strike="noStrike" u="sng">
                <a:solidFill>
                  <a:srgbClr val="330066"/>
                </a:solidFill>
                <a:uFillTx/>
                <a:latin typeface="Arial"/>
              </a:rPr>
              <a:t>квадратных уравнений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55640" y="198900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гда вы идете из школы домой и кидаете снежок в окно соседского дома, то, оказывается, он летит по определенной траектории, которая н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араболо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описывает математически параболу как раз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квадрат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 есть квадратное уравнение нужно, чтобы ответить на вопрос – попадет ли снежок в цель и сколько времени он будет лететь, если мы знаем высоту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ие 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учиться решать проблему путем наименьших временных издержек и усил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развить  способность видеть обходные пу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ктические 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накомство с квадратными уравне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Рассмотрение различных способов решения квадратных уравнений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 которые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озволят быстрее  находить корн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660680"/>
            <a:ext cx="769608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проведения курса – деловая иг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ачале курса всем придет сообщ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бнаружен неизвестный объект, получивший кодовое название «квадратное уравнение». Цель – собрать более полную информацию про объек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грамма нашего курс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Сбор консилиума специалис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наружен неизвестный объект, связанный с полетом снежка: квадратное уравн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бходимо его тщательное исслед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грамма нашего курс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Разделение специалистов по группа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торики (как решали квадратное уравнение в древ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упп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 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следователи дискриминан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ураспад (разложение на множители, выделение полного квадра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етоло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етологи2, знающие обходной пу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гроки с коэффициент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грамма нашего курс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Практические эксперименты и обмен опытом между групп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ждая группа подготовит сообщение для всех остальных и обучит своему методу справляться с квадратным уравне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4:26:03Z</dcterms:created>
  <dc:creator>MARI</dc:creator>
  <dc:description/>
  <dc:language>en-US</dc:language>
  <cp:lastModifiedBy>26515</cp:lastModifiedBy>
  <dcterms:modified xsi:type="dcterms:W3CDTF">2010-05-24T10:23:16Z</dcterms:modified>
  <cp:revision>23</cp:revision>
  <dc:subject/>
  <dc:title>Слайд 1</dc:title>
</cp:coreProperties>
</file>